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44C-AE56-4DA1-879D-EBBFFB8F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C50-DDC3-4E50-BA49-29F61BA5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4E3-5411-4125-AA49-6CC659F1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D12B-28E4-48D9-BE3B-8005F525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5EDB-CF57-4CBD-8541-BDF805E4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DD9-44DA-46BE-85B3-528C493F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5D5-7A18-4C9A-9D9E-C3FC6CDA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9F7-48E5-42D7-81C0-632BC842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A0E-D16C-44FC-B32C-261DF89E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98D-B2EB-43F6-BCBC-78F18ED7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EDC-C480-4802-ACA6-B01FD5D1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DE3A-8E63-41B9-8EED-BE036B1D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B6C0-064D-4FC3-98B4-1F9E2EF9E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44560" y="633240"/>
            <a:ext cx="7454880" cy="559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56000" y="2565360"/>
            <a:ext cx="1152720" cy="432000"/>
          </a:xfrm>
          <a:prstGeom prst="left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5:51:59Z</dcterms:created>
  <dc:creator>Brázda Jan</dc:creator>
  <dc:description/>
  <dc:language>en-US</dc:language>
  <cp:lastModifiedBy>Brázda Jan</cp:lastModifiedBy>
  <dcterms:modified xsi:type="dcterms:W3CDTF">2007-04-17T15:52:36Z</dcterms:modified>
  <cp:revision>1</cp:revision>
  <dc:subject/>
  <dc:title>Snímek 1</dc:title>
</cp:coreProperties>
</file>